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7160-E5CA-4697-83B4-2A0B4DCDD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A09B-50CE-420D-B218-9A1677FE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5E21-15BD-4779-A0C1-C502339E9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EEF3-DAE1-409A-99DF-A955AF73C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30D-ED3E-461D-AE86-1B51BD0E9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6122-6FC2-4E13-A4B6-469ED15F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C556-0089-49C1-90ED-3C1D4633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6C8D-3A3B-406B-8118-9741E6D17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E618-CD5D-4B6A-B3D9-4ED682EF5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E5A1-D63A-41A4-B587-3151987E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7A4F-A90A-4227-9972-100CD76C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732-8F44-41EF-B53A-E0922BC7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9D66-D4F5-4E87-98DD-D025BB08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6D4D-6772-4518-9A6D-9B4FA9DA9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EE67-8E0F-49E3-8562-C1585269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6B4-7AA0-4C9E-BC6F-7CA1EC76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35D6-9239-4D2A-B9D9-E74D481BF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EE14-451E-419E-8165-743FE9CE2E2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598A-5CE1-41C7-A29A-AD183BCD3D0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1348-E51C-48A6-80A9-6EE80EBD1F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54EC-48D4-482D-A920-40F4113FCE0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14A3-01E3-4A8B-A95B-1681E452DCE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8FCA-FB91-497F-A8B5-A574477664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A9F0-8E52-440F-A4C0-46FBACE5904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8897-B1FD-475E-BB7C-DB31C553201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AEA4-5911-42CA-98C5-653B5EDA642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2D3A-F4E8-4F1C-A352-A8EB7CBE932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50F2-ED12-4A66-9F06-2DB494E43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1D8B-065A-4373-BEE0-26E8C525E01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8C9A-86C2-4317-9245-AFDDC969E31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EA58-BB2A-4466-B9C0-9052AA377F7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9718-F8BB-4AD7-8A7F-C9DE6D77756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E127-6942-466A-8D9F-1419F79603D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681-74CD-4DDD-A3C4-3C950B81BA5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810-4EEE-46C2-A00C-8E512AD711B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E61-2DF2-443F-81A2-BDA394D4D83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2C7-4EA5-42AE-B77F-7D92E6CDC2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214-1DF8-404A-87B7-2487A5E41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6F39-49E5-4F55-98D0-4B040FF7B9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897-4E1F-4C15-99A5-EFABA0C08B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C26-3F98-41ED-89FF-C0FFEC70B9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915-6171-4669-BF49-9609257416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1B3-777F-4B7C-9BCD-88800E3BA9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E5A-F190-4085-8C9C-D902E945B4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EB0-C468-4DF4-9869-F229859244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08D-5DBD-4C5D-85B6-871B3DAA30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214A-4E4B-41AC-8912-03A5A92F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2B16-274B-4AC3-B7BB-812BD945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2EF9-FDFF-4900-8D00-D22EE0B4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EE28-B3A6-4418-A2F2-5996C990D4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D36B-0927-4F1A-A293-96507D75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2E8-FEC6-43B9-85E4-8D8F37D3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90B9-E82B-4CE1-B88E-3BCDF6A8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8BD1-D49D-491C-A32D-A1A14443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26AF-9034-47D7-A461-A6482199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6001-820A-4382-B4F2-0ED02F3B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F4DD-F389-4920-860F-31296EA3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B262-EF9C-439E-AEB9-AC27A2FA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6930-53BB-404A-9CF9-AC46DFEB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6D7D-D0CB-4C00-AE2E-D8A13D1D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AB3A-F0A6-4DF2-9068-FA6674183A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C4F4-E44E-4AD5-A975-B6B0C3AA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83A4-872F-49A8-BD0B-9E1B595F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DFD7-FAD0-44DF-B752-44071E27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CFCB-85B5-4496-855D-A598533E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DEF8-4895-4E7C-B767-EDDE155B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D442-97D2-4B95-BCF0-D1A2D39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8B23-6FEC-4F5A-8A63-3EBE071F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2ED4-D903-458B-82F1-F918AFA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EC27-791F-4118-AA37-1AA9BD7A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E0B6-CAFA-42AB-9B77-ABC33710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E7D3-F22B-4D99-933D-B273DDAE4F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2B21-EB41-418A-AE52-31721293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5B6A-34EF-40F9-B0A7-6B1DCEA7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2AC8-65D2-4BFB-A457-B6C76D7D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EBAA-82B5-4C2E-81F7-439D77D6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6E1F4-7EE2-47B6-B431-EA2E2BBF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B858-CF5E-4C12-A0B7-7E674A93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8AEB-814D-4C8F-9D38-4AA0FB54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2F9F7-66C0-47B6-A1A8-A924F55A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217A-6ACD-4E93-9C2A-F5C35C6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9BBE-0024-47D3-A689-C2840ABE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868A-7D54-4EFA-A98D-D144E28091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C43FE-1BE3-49A5-BFD3-ACB958AB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893C-44EA-45BC-A4A7-A350F066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E0AA-7D01-4566-B3AF-D9A46652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AF73-552C-46B0-BF7F-F69DE8F798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4E30-1601-495D-830A-46E9BD8E49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F547-A4E3-409D-9716-F3A7A29BB2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0633-8457-4464-92AC-BF8DF84841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9B73-DA8E-435B-9F5F-7275D84927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3E2-B605-4B29-8670-03F40EB787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DAA4-B64F-43C4-BDF8-76C522FACD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EEAE-BE99-4DC5-8FDC-DC559B8298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Rectangle 6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pass time through to invo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Time Track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0" name="Picture 4" descr="C:\Users\DPEMBR~1\AppData\Local\Temp\SNAGHTML1bf38d4.PNG"/>
          <p:cNvPicPr/>
          <p:nvPr/>
        </p:nvPicPr>
        <p:blipFill>
          <a:blip r:embed="rId2"/>
          <a:stretch/>
        </p:blipFill>
        <p:spPr>
          <a:xfrm>
            <a:off x="1687680" y="2514600"/>
            <a:ext cx="5768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time spent by a single person performing a single service on a single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3" name="Picture 4" descr="C:\Users\DPEMBR~1\AppData\Local\Temp\SNAGHTML2118e54.PNG"/>
          <p:cNvPicPr/>
          <p:nvPr/>
        </p:nvPicPr>
        <p:blipFill>
          <a:blip r:embed="rId2"/>
          <a:stretch/>
        </p:blipFill>
        <p:spPr>
          <a:xfrm>
            <a:off x="934920" y="3200400"/>
            <a:ext cx="7274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55" name="Rectangle 5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Picture 4" descr="C:\Users\DPEMBR~1\AppData\Local\Temp\SNAGHTML21471fe.PNG"/>
          <p:cNvPicPr/>
          <p:nvPr/>
        </p:nvPicPr>
        <p:blipFill>
          <a:blip r:embed="rId2"/>
          <a:stretch/>
        </p:blipFill>
        <p:spPr>
          <a:xfrm>
            <a:off x="433440" y="1828800"/>
            <a:ext cx="82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 txBox="1"/>
          <p:nvPr/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ime marked “billable” is transfer to the next Invoice for that Customer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9" name="Picture 4" descr="C:\Users\DPEMBR~1\AppData\Local\Temp\SNAGHTML2157fe3.PNG"/>
          <p:cNvPicPr/>
          <p:nvPr/>
        </p:nvPicPr>
        <p:blipFill>
          <a:blip r:embed="rId2"/>
          <a:stretch/>
        </p:blipFill>
        <p:spPr>
          <a:xfrm>
            <a:off x="1871640" y="2590920"/>
            <a:ext cx="5400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ws hours each employee worked for each Customer or Jo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62" name="Picture 4" descr="C:\Users\DPEMBR~1\AppData\Local\Temp\SNAGHTML21a91be.PNG"/>
          <p:cNvPicPr/>
          <p:nvPr/>
        </p:nvPicPr>
        <p:blipFill>
          <a:blip r:embed="rId2"/>
          <a:stretch/>
        </p:blipFill>
        <p:spPr>
          <a:xfrm>
            <a:off x="1981080" y="2819520"/>
            <a:ext cx="51818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makes an expense Billable, Not Billable, or Bill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add reimbursable Expenses, Items, Mileage, and Time to Invoic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wo-sided Items to track reimbursable expen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wo-sided Items to track subcontracte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Time Track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ss billable time onto an Invoi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reports to analyze timesheet dat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makes an expense Billable, Not Billable, or Bill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add reimbursable Expenses, Items, Mileage, and Time to Invoic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wo-sided Items to track reimbursable expen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wo-sided Items to track subcontracte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Time Track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ss billable time onto an Invoi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reports to analyze timesheet dat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5" descr="C:\Users\DPEMBR~1\AppData\Local\Temp\SNAGHTML1f6b16d.PNG"/>
          <p:cNvPicPr/>
          <p:nvPr/>
        </p:nvPicPr>
        <p:blipFill>
          <a:blip r:embed="rId1"/>
          <a:stretch/>
        </p:blipFill>
        <p:spPr>
          <a:xfrm>
            <a:off x="2797200" y="1828800"/>
            <a:ext cx="6126120" cy="4191120"/>
          </a:xfrm>
          <a:prstGeom prst="rect">
            <a:avLst/>
          </a:prstGeom>
          <a:ln w="0">
            <a:noFill/>
          </a:ln>
        </p:spPr>
      </p:pic>
      <p:pic>
        <p:nvPicPr>
          <p:cNvPr id="1027" name="Rectangle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 txBox="1"/>
          <p:nvPr/>
        </p:nvSpPr>
        <p:spPr>
          <a:xfrm>
            <a:off x="380520" y="1676160"/>
            <a:ext cx="2514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ickBooks allows you to pass expenses through to customers for reimburs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, record the expen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Oval 12"/>
          <p:cNvSpPr/>
          <p:nvPr/>
        </p:nvSpPr>
        <p:spPr>
          <a:xfrm>
            <a:off x="5334120" y="4562640"/>
            <a:ext cx="18288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ss the expenses through the invoi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32" name="Picture 5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710160" cy="1622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C:\Users\DPEMBR~1\AppData\Local\Temp\SNAGHTML1f96947.PNG"/>
          <p:cNvPicPr/>
          <p:nvPr/>
        </p:nvPicPr>
        <p:blipFill>
          <a:blip r:embed="rId3"/>
          <a:stretch/>
        </p:blipFill>
        <p:spPr>
          <a:xfrm>
            <a:off x="3809880" y="3200400"/>
            <a:ext cx="5227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Rectangle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C:\Users\DPEMBR~1\AppData\Local\Temp\SNAGHTML1a0dc62.PNG"/>
          <p:cNvPicPr/>
          <p:nvPr/>
        </p:nvPicPr>
        <p:blipFill>
          <a:blip r:embed="rId2"/>
          <a:stretch/>
        </p:blipFill>
        <p:spPr>
          <a:xfrm>
            <a:off x="1003320" y="1638360"/>
            <a:ext cx="7137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Item used on both sales and purchase types of forms is commonly called a “Two-Sided Item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sible uses of two-sided Items includ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imbursable Expens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ustom Ordered Part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ubcontracted Lab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st of Goods Sold post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5" descr=""/>
          <p:cNvPicPr/>
          <p:nvPr/>
        </p:nvPicPr>
        <p:blipFill>
          <a:blip r:embed="rId1"/>
          <a:stretch/>
        </p:blipFill>
        <p:spPr>
          <a:xfrm>
            <a:off x="3443400" y="1828800"/>
            <a:ext cx="5587920" cy="4038480"/>
          </a:xfrm>
          <a:prstGeom prst="rect">
            <a:avLst/>
          </a:prstGeom>
          <a:ln w="0">
            <a:noFill/>
          </a:ln>
        </p:spPr>
      </p:pic>
      <p:pic>
        <p:nvPicPr>
          <p:cNvPr id="1039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91680" cy="15732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 txBox="1"/>
          <p:nvPr/>
        </p:nvSpPr>
        <p:spPr>
          <a:xfrm>
            <a:off x="456840" y="167652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tomatically track the revenue and costs for Custom Order It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stom Orders are items not held in invento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Oval 10"/>
          <p:cNvSpPr/>
          <p:nvPr/>
        </p:nvSpPr>
        <p:spPr>
          <a:xfrm>
            <a:off x="3352680" y="3657600"/>
            <a:ext cx="373392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 txBox="1"/>
          <p:nvPr/>
        </p:nvSpPr>
        <p:spPr>
          <a:xfrm>
            <a:off x="457200" y="167616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sided items allow you to pass subcontractor costs through to Invoic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reports showing the profitability of subcontracte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4740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report shows all of the billable expenses and Items that you haven’t passed through to Invo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47" name="Picture 4" descr="C:\Users\DPEMBR~1\AppData\Local\Temp\SNAGHTML20d2ea8.PNG"/>
          <p:cNvPicPr/>
          <p:nvPr/>
        </p:nvPicPr>
        <p:blipFill>
          <a:blip r:embed="rId2"/>
          <a:stretch/>
        </p:blipFill>
        <p:spPr>
          <a:xfrm>
            <a:off x="800280" y="3352680"/>
            <a:ext cx="75438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05:35:19Z</dcterms:created>
  <dc:creator>The Sleeter Group, Inc.</dc:creator>
  <dc:description/>
  <dc:language>en-US</dc:language>
  <cp:lastModifiedBy>Deborah Pembrook</cp:lastModifiedBy>
  <dcterms:modified xsi:type="dcterms:W3CDTF">2011-12-09T05:32:05Z</dcterms:modified>
  <cp:revision>103</cp:revision>
  <dc:subject/>
  <dc:title>Chapter 1 Pass-Throughs </dc:title>
</cp:coreProperties>
</file>